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35C12-191A-4228-8859-E9A539872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1EFF1-4B5B-41A3-9BFF-FA4A95952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F6033-AD14-4CB7-9ABC-0327621E5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FD4FC-DA38-4D01-8D83-122EF7472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6954F-E2FE-425A-A77E-11C1D354C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86EA1-A299-4A5A-BD13-7D4DE88A5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90AFB-0A68-4498-BED1-B0B79523B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2E6D8-CD88-4467-BE10-EDD703CA1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843B7-AAD6-4B3F-8950-75B582432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9FB49-7340-4527-A906-BD6D29E2D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53CF6-0A8C-43C1-84ED-C30B72FAF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043D-7DED-444D-A67F-7B245386A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66F3-E9B3-42B5-B9D5-EBC9530BD0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2195640" y="1700280"/>
            <a:ext cx="4876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siunea iunie-iuli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5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66"/>
            </a:gs>
          </a:gsLst>
          <a:lin ang="135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10" descr=""/>
          <p:cNvPicPr/>
          <p:nvPr/>
        </p:nvPicPr>
        <p:blipFill>
          <a:blip r:embed="rId1"/>
          <a:stretch/>
        </p:blipFill>
        <p:spPr>
          <a:xfrm>
            <a:off x="5214960" y="928800"/>
            <a:ext cx="3002040" cy="3001680"/>
          </a:xfrm>
          <a:prstGeom prst="rect">
            <a:avLst/>
          </a:prstGeom>
          <a:ln w="0">
            <a:noFill/>
          </a:ln>
        </p:spPr>
      </p:pic>
    </p:spTree>
  </p:cSld>
  <p:transition spd="med" advTm="5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Tree>
  </p:cSld>
  <p:transition spd="med" advTm="5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2</cp:lastModifiedBy>
  <dcterms:modified xsi:type="dcterms:W3CDTF">2012-06-18T10:56:26Z</dcterms:modified>
  <cp:revision>47</cp:revision>
  <dc:subject/>
  <dc:title>SALARIUL</dc:title>
</cp:coreProperties>
</file>